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6E4-4C6F-48DC-9406-99AC6B4D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774-FB71-492A-AF99-0A602958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E7A-8292-495F-AD1F-B0030178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91F-FBCB-4F63-A4DC-FF5C13FA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367-EFE6-44C0-B251-75CC6FB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6F4-33BA-4872-B4F2-B75BA019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A3E-4B46-49AF-A41A-A0D3553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C10-3F3C-4ACA-A0EF-675117D9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BEB-17D3-4CA5-8B1D-CDBA8719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75E-0B94-4B64-BA62-2C414FC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D8B-3A90-4526-B714-0286C8B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776-7D08-4B16-A210-4AE12F8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D44-95E4-48F4-8014-49600D22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86280" cy="64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9625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791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7620120" cy="158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1676520"/>
            <a:ext cx="7621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676520"/>
            <a:ext cx="9903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1676520"/>
            <a:ext cx="8380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99072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010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05920" cy="170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762120"/>
            <a:ext cx="3581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371600"/>
            <a:ext cx="9907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1371600"/>
            <a:ext cx="7621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371600"/>
            <a:ext cx="9907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98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64771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391520" cy="1654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95680" y="1447920"/>
            <a:ext cx="990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400800" cy="456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86200" y="20574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2590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200400"/>
            <a:ext cx="1676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12193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31:13Z</dcterms:created>
  <dc:creator>grahams</dc:creator>
  <dc:description/>
  <dc:language>en-US</dc:language>
  <cp:lastModifiedBy>grahams</cp:lastModifiedBy>
  <dcterms:modified xsi:type="dcterms:W3CDTF">2012-03-20T14:14:40Z</dcterms:modified>
  <cp:revision>2</cp:revision>
  <dc:subject/>
  <dc:title>Slide 1</dc:title>
</cp:coreProperties>
</file>